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549-2F0B-4528-A7CC-66150B7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39A-6C69-4D3A-9F63-9D30EB6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878-C05C-4A4A-B6D4-7E9FD57C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CBF-F5C6-41FA-96C2-3DD0196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C1D-1BF4-4717-AB1E-A89E233C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683-E3BA-471A-88A8-7CA72D4E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82E-F25A-428C-AE81-F796C1F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F0B-8D5A-47E6-A3CC-1D671C9F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330-32A7-4D0A-9CDE-B974EC88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F0C-0745-4042-AE43-7BF827A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027-E96D-4796-BE01-F8A2F41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B4E-5577-4EAD-BEFE-C5B6F58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67BA-BFE6-42B5-822E-A097821F0E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«Почему дети лгут? </a:t>
            </a:r>
            <a:br>
              <a:rPr sz="4800"/>
            </a:br>
            <a:r>
              <a:rPr b="1" lang="ru-RU" sz="4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ичины детской лж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, клинический психоло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й член Международной профессиональной  ассоциации психологов, действительный член Общероссийской профессиональной психотерапевтической л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вце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из стр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 может врать, чтобы избежать насм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ится наказания или ун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 огорчить, разочарова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под влиянием друг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дко дети подвергаются угрозам и запугиванию со стороны одноклассников или старшеклассников. Причина жесткое давление и принуждение со стороны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ние взрослым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уется установка, что обман это норм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755640" y="1847880"/>
            <a:ext cx="76932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во спа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 обманывает ради дружбы, чтобы спасти с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4051080" cy="269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из м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вает так, что ребенок постоянно конфликтует с родителями. Ему кажется, что родители совсем перестали его любить, а может, и раньше не любили. Мстит им за недостаток любви с помощью л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ради вы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 преднамеренно совершает наказуемый поступок, а потом пытается соврать, переложить свою вину на другого, чтобы уйти от на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ребёнок или взрослый врёт сознательно, ради выгоды, то должен по всей строгости отвечать за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мотивированная лож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лжет неосознанно и постоянно. Для него это просто привычка, обычная повседневность. Последствия его не волн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2700360" y="3286080"/>
            <a:ext cx="4389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способствующие формированию склонности ко л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лжецы в большинстве своём происходят из семей, в которых родители тоже лгут. Родители иногда целенаправленно обучают детей говорить неправду: «Скажем в школе, что у тебя болит голова, поэтому ты не выполнил задание». А иногда обучение лжи происходит незаметно для родителей, когда они в общении друг с другом, с другими людьми допускают неискренность, считая, что дети ничего не замечают, но дети обучаются не тому, чему их учат родители, а тому, как сами родители поступают в тех или иных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лжецы обычно испытывают недостаток родительского внимания, тепла и заботы. Часто ложь, как и другие формы «плохого» поведения, - единственный способ ребёнка привлечь к себе внимание: «даже, если меня ругают, меня заметили». Детская ложь часто встречается в семьях, где дети чувствуют себя отверженными или родители завышают требования, часто требуя от детей того, чего они ещё не могут достичь в силу особенностей возраст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лжецов и друзья обычно лгут. С приближением подросткового возраста ребёнок более подвержен влиянию сверстников. С возрастом всё большее количество ребят готовы следовать за товарищами в неблаговидных делах. Объяснение этому в том, что «возрастающая готовность детей следовать асоциальному примеру своих сверстников связана с разочарованием во взрослых – в их силе, мудрости, доброй воле и здравом смысл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 по проблеме предотвращения детской лж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честен со своими родителями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ится их гнева, не боится быть отвергнутым 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 – что бы ни произошло, взрослые не станут его униж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, что его поддержат в трудной ситуации, помогут сов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, что в спорной ситуации вы примите его стор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ёрдо знает, что если его накажут, то наказание будет справедливым и разум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ителями и детьми существует довер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вести себя с ребён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возможную причину и проанализировать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ёнок сам сознался во лжи – не наказывай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точно знаете, что ребёнок врёт, скажите сразу, что вам всё изв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ю ложь пытайтесь обсудить с ребёнком. Покажите возможные выходы из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искренность ребёнка. Старайтесь стать для него таким близким человеком, чтобы ему не хотелось вас огор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ж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бёнка – это сигнал, который он посылает своим родителям. Ведь он не станет врать, если в его жизни всё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ская лож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часто встречающееся нарушение поведения у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 П.Экмана,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– это намеренное решение ввести в заблуждение того, кому адресована информация, без предупреждения о своём намерении сделать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правиться с детской ложь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ьте ребё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 на правде «держится мир». Люди живут в согласии, если доверяю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здавайте ситуации для об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двусмысленных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няйте унизительных д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аграждайте че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йте пример ч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заниматься разобла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зывайте ребёнка вруном и обманщ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девайте личность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анывать детей, чтобы избежать скан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едует «запоминать» лож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честен с вами только тогда, к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яет в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ится гнева или осу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: что бы ни случилось, его не унизят как л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ть будут не его, а поступок, который надо исправ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ут, поддержат, когда ему плох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твёрдо знает: вы на его стор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, что даже если накажут, то разумно и справедл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ти – это повторение нас самих. И никогда нельзя забывать – от того, насколько честны и искренни вы сами, и насколько доверительные отношения между вами и детьми, будет зависеть и то, насколько ваш ребёнок будет с вами правдив. Если вы будете это помнить, то вам никогда не придётся ломать голову над тем, как отучать ребёнка в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Герасина «Как определить, лжет ли ваш ребенок»: АСТ, 2006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Экман «Почему дети лгут?»: Педагогика-Пресс, Москва,1993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Юрченко «Вся правда о детской лжи, или Что нужно знать родителям юных обманщиков?»-СПб.: Речь; М:Сфера,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вида л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лчание – сокрытие прав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жение – сообщение лож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3706920" y="2567160"/>
            <a:ext cx="3741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ложь носит качественно разнообразный характер, то есть в разных ситуациях ребёнок использует разные мотивы, чтобы сказать неправ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нимания причин поведения ребенка, который говорит неправду, важно поним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лжи (почему ребенок обманул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лжи (на кого и как повлияла ложь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мотива лжи поможет взрослому принять решение о том, как себя повести, чтобы ребенок не солгал сн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Фромм выделяет четыре основные причины, почему дети лг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обиться нашей похвалы или проявления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крыть сво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нака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азить свою враждебност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2481120" y="4363920"/>
            <a:ext cx="33894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детской лж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 П.Экман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ние лжи взросл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ие удоволь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ворные детские боле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, как причина л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ка избежать наказ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ривлечь к себе вним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ребёнка проблем, требующих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стрессовых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ной пример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Ы  ДЕТСКОЙ ЛЖИ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-игра, ложь фант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сказывают сочинённые истории, выдавая их за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астую фантазии ребенка – не просто творческий вымысел. В завуалированной форме малыш пытается сообщать о том, чего ему не хватает в действительности, говорить о том, чего ему хочется или, наоборот, не нравится, но избежать этого в жизни не получается. Такие фантазии – а их порой бывает очень сложно отличить от обмана – намек и просьба к родителям, чтобы они наконец-то обратили внимание, поняли и помогли воплотить в жизнь заветные ме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-манипуля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ожь, к которой ребенок прибегает для самоутверждения. Цель - удивить, заставить восхищаться, хочет привлечь к себе внимание. Ребенок хочет манипулировать чувствами других людей для своей пользы. Тут могут пойти рассказы о богатстве родителей, о родстве со знаменитостью. Или наоборот о том, как его несправедливо обидели, как его никто не любит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 нашим, и ваши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ая ложь чаще всего встречается в семьях , в которой родственники конфликтуют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2124000" y="3240000"/>
            <a:ext cx="49323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06-13T19:18:09Z</dcterms:modified>
  <cp:revision>785</cp:revision>
  <dc:subject/>
  <dc:title>Diapositiva 1</dc:title>
</cp:coreProperties>
</file>